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249C8-F81D-41B5-810F-37C5997AC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BB1DC-2FF8-4F8E-AF2F-6E87A21A7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5291F-E456-4D32-990B-EB89A3476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23964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2208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5720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23964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2208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FB49F-CDB3-4401-9C86-F952284D5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03BEB-31D3-4935-BFDF-E24519D0C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 type="subTitle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36340-C60D-4000-B9BF-C14EB26E8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6ED2F-D998-422E-AA5B-FA04682CC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0E616-CBE3-4E04-9DCE-02E11BBBA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16413-E56E-401B-B28E-02AFD8475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35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EB953-64CA-44B8-90F7-EF865E266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4F412-A708-498F-9A6F-8EA494187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C5882-E98E-4ECD-AC66-63E079A60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4" name="PlaceHolder 4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8B695-17DA-4C5F-A94C-F6E9D4190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3ACED-9B4C-4376-972E-285A1D26A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9FBC1-867F-4009-B6CA-A7D2C68F8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6" name="PlaceHolder 5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B1907-C4DF-4A53-8C0F-96DB7DD96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323964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/>
          </p:nvPr>
        </p:nvSpPr>
        <p:spPr>
          <a:xfrm>
            <a:off x="602208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1" name="PlaceHolder 5"/>
          <p:cNvSpPr>
            <a:spLocks noGrp="1"/>
          </p:cNvSpPr>
          <p:nvPr>
            <p:ph/>
          </p:nvPr>
        </p:nvSpPr>
        <p:spPr>
          <a:xfrm>
            <a:off x="45720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2" name="PlaceHolder 6"/>
          <p:cNvSpPr>
            <a:spLocks noGrp="1"/>
          </p:cNvSpPr>
          <p:nvPr>
            <p:ph/>
          </p:nvPr>
        </p:nvSpPr>
        <p:spPr>
          <a:xfrm>
            <a:off x="323964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3" name="PlaceHolder 7"/>
          <p:cNvSpPr>
            <a:spLocks noGrp="1"/>
          </p:cNvSpPr>
          <p:nvPr>
            <p:ph/>
          </p:nvPr>
        </p:nvSpPr>
        <p:spPr>
          <a:xfrm>
            <a:off x="602208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A0EE2-8A50-465A-8360-3E0DDEEE1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735C4-7C73-49A3-A93E-7BCE453C6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C5F97-784A-4EAB-A222-30D731422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CF571-F0A6-48D2-8D37-5691ACFAC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35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5BCC0-2655-4099-8618-434E565A0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0C1DB-6E62-474B-BC3E-7A8613F48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C9AF6-C8F0-4735-9C20-496033ED4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C8748-10FB-4E0E-9AB6-763120324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8763120" y="0"/>
            <a:ext cx="380880" cy="6858000"/>
            <a:chOff x="8763120" y="0"/>
            <a:chExt cx="38088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8763120" y="0"/>
              <a:ext cx="380880" cy="1219320"/>
              <a:chOff x="8763120" y="0"/>
              <a:chExt cx="380880" cy="1219320"/>
            </a:xfrm>
          </p:grpSpPr>
          <p:sp>
            <p:nvSpPr>
              <p:cNvPr id="2" name=""/>
              <p:cNvSpPr/>
              <p:nvPr/>
            </p:nvSpPr>
            <p:spPr>
              <a:xfrm>
                <a:off x="876312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883944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891540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99172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06804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312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83944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91540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99172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906804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76312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883944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891540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99172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906804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876312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883944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891540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899172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906804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876312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883944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891540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9172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906804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876312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883944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891540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899172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906804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76312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83944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891540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99172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906804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876312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83944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891540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99172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906804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42" name=""/>
            <p:cNvGrpSpPr/>
            <p:nvPr/>
          </p:nvGrpSpPr>
          <p:grpSpPr>
            <a:xfrm>
              <a:off x="8763120" y="1219320"/>
              <a:ext cx="380880" cy="1218600"/>
              <a:chOff x="8763120" y="1219320"/>
              <a:chExt cx="380880" cy="1218600"/>
            </a:xfrm>
          </p:grpSpPr>
          <p:sp>
            <p:nvSpPr>
              <p:cNvPr id="43" name=""/>
              <p:cNvSpPr/>
              <p:nvPr/>
            </p:nvSpPr>
            <p:spPr>
              <a:xfrm>
                <a:off x="876312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883944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891540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899172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906804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876312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883944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891540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899172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906804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876312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83944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1540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99172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906804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6312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83944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891540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899172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906804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312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83944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91540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99172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906804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876312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883944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891540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899172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906804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876312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883944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91540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99172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906804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876312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883944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891540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99172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906804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3" name=""/>
            <p:cNvGrpSpPr/>
            <p:nvPr/>
          </p:nvGrpSpPr>
          <p:grpSpPr>
            <a:xfrm>
              <a:off x="8763120" y="2438280"/>
              <a:ext cx="380880" cy="1219320"/>
              <a:chOff x="8763120" y="2438280"/>
              <a:chExt cx="380880" cy="1219320"/>
            </a:xfrm>
          </p:grpSpPr>
          <p:sp>
            <p:nvSpPr>
              <p:cNvPr id="84" name=""/>
              <p:cNvSpPr/>
              <p:nvPr/>
            </p:nvSpPr>
            <p:spPr>
              <a:xfrm>
                <a:off x="876312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883944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891540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899172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906804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876312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883944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891540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899172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906804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876312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883944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891540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899172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906804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876312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883944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891540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899172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906804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876312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883944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891540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899172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906804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876312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883944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91540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99172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906804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876312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83944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891540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899172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906804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876312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883944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891540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899172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906804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8763120" y="3657600"/>
              <a:ext cx="380880" cy="1219320"/>
              <a:chOff x="8763120" y="3657600"/>
              <a:chExt cx="380880" cy="1219320"/>
            </a:xfrm>
          </p:grpSpPr>
          <p:sp>
            <p:nvSpPr>
              <p:cNvPr id="125" name=""/>
              <p:cNvSpPr/>
              <p:nvPr/>
            </p:nvSpPr>
            <p:spPr>
              <a:xfrm>
                <a:off x="876312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883944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891540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899172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906804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76312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83944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91540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899172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906804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876312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883944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891540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899172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906804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876312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883944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891540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99172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906804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76312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83944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891540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899172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906804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876312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883944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891540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899172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906804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876312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883944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91540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899172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906804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76312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83944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91540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99172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906804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165" name=""/>
            <p:cNvGrpSpPr/>
            <p:nvPr/>
          </p:nvGrpSpPr>
          <p:grpSpPr>
            <a:xfrm>
              <a:off x="8763120" y="4876920"/>
              <a:ext cx="380880" cy="1218960"/>
              <a:chOff x="8763120" y="4876920"/>
              <a:chExt cx="380880" cy="1218960"/>
            </a:xfrm>
          </p:grpSpPr>
          <p:sp>
            <p:nvSpPr>
              <p:cNvPr id="166" name=""/>
              <p:cNvSpPr/>
              <p:nvPr/>
            </p:nvSpPr>
            <p:spPr>
              <a:xfrm>
                <a:off x="876312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883944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891540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99172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906804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876312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883944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891540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899172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906804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876312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883944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891540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899172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906804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876312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883944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891540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899172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906804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876312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883944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891540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899172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906804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876312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883944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891540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899172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906804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876312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883944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891540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99172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906804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876312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883944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891540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99172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906804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206" name=""/>
            <p:cNvGrpSpPr/>
            <p:nvPr/>
          </p:nvGrpSpPr>
          <p:grpSpPr>
            <a:xfrm>
              <a:off x="8763120" y="6095880"/>
              <a:ext cx="380880" cy="762120"/>
              <a:chOff x="8763120" y="6095880"/>
              <a:chExt cx="380880" cy="762120"/>
            </a:xfrm>
          </p:grpSpPr>
          <p:sp>
            <p:nvSpPr>
              <p:cNvPr id="207" name=""/>
              <p:cNvSpPr/>
              <p:nvPr/>
            </p:nvSpPr>
            <p:spPr>
              <a:xfrm>
                <a:off x="876312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883944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891540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899172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906804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876312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883944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891540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899172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906804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876312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883944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891540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899172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906804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876312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883944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891540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899172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906804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876312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883944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891540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899172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906804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232" name=""/>
          <p:cNvGrpSpPr/>
          <p:nvPr/>
        </p:nvGrpSpPr>
        <p:grpSpPr>
          <a:xfrm>
            <a:off x="0" y="0"/>
            <a:ext cx="380880" cy="6858000"/>
            <a:chOff x="0" y="0"/>
            <a:chExt cx="380880" cy="6858000"/>
          </a:xfrm>
        </p:grpSpPr>
        <p:grpSp>
          <p:nvGrpSpPr>
            <p:cNvPr id="233" name=""/>
            <p:cNvGrpSpPr/>
            <p:nvPr/>
          </p:nvGrpSpPr>
          <p:grpSpPr>
            <a:xfrm>
              <a:off x="0" y="0"/>
              <a:ext cx="380880" cy="1219320"/>
              <a:chOff x="0" y="0"/>
              <a:chExt cx="380880" cy="1219320"/>
            </a:xfrm>
          </p:grpSpPr>
          <p:sp>
            <p:nvSpPr>
              <p:cNvPr id="234" name=""/>
              <p:cNvSpPr/>
              <p:nvPr/>
            </p:nvSpPr>
            <p:spPr>
              <a:xfrm>
                <a:off x="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7632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15228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22860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30492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7632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15228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22860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30492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7632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15228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22860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30492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7632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15228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22860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30492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7632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15228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22860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30492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7632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15228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22860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30492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7632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15228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22860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30492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7632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15228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22860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30492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0" y="1219320"/>
              <a:ext cx="380880" cy="1218600"/>
              <a:chOff x="0" y="1219320"/>
              <a:chExt cx="380880" cy="1218600"/>
            </a:xfrm>
          </p:grpSpPr>
          <p:sp>
            <p:nvSpPr>
              <p:cNvPr id="275" name=""/>
              <p:cNvSpPr/>
              <p:nvPr/>
            </p:nvSpPr>
            <p:spPr>
              <a:xfrm>
                <a:off x="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7632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15228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22860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30492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7632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5228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22860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30492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7632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15228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22860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30492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7632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5228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22860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30492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7632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15228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22860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30492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7632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15228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22860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30492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7632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15228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22860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30492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632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15228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22860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30492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0" y="2438280"/>
              <a:ext cx="380880" cy="1219320"/>
              <a:chOff x="0" y="2438280"/>
              <a:chExt cx="380880" cy="1219320"/>
            </a:xfrm>
          </p:grpSpPr>
          <p:sp>
            <p:nvSpPr>
              <p:cNvPr id="316" name=""/>
              <p:cNvSpPr/>
              <p:nvPr/>
            </p:nvSpPr>
            <p:spPr>
              <a:xfrm>
                <a:off x="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7632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15228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22860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30492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632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15228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22860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30492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32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5228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22860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0492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7632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5228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22860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30492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7632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15228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860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30492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7632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15228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22860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30492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7632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15228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22860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30492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7632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15228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22860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30492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56" name=""/>
            <p:cNvGrpSpPr/>
            <p:nvPr/>
          </p:nvGrpSpPr>
          <p:grpSpPr>
            <a:xfrm>
              <a:off x="0" y="3657600"/>
              <a:ext cx="380880" cy="1219320"/>
              <a:chOff x="0" y="3657600"/>
              <a:chExt cx="380880" cy="1219320"/>
            </a:xfrm>
          </p:grpSpPr>
          <p:sp>
            <p:nvSpPr>
              <p:cNvPr id="357" name=""/>
              <p:cNvSpPr/>
              <p:nvPr/>
            </p:nvSpPr>
            <p:spPr>
              <a:xfrm>
                <a:off x="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7632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15228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22860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30492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7632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15228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22860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30492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7632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15228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22860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30492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632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15228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22860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30492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7632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15228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22860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30492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7632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15228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22860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30492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7632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15228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22860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30492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7632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15228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22860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30492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97" name=""/>
            <p:cNvGrpSpPr/>
            <p:nvPr/>
          </p:nvGrpSpPr>
          <p:grpSpPr>
            <a:xfrm>
              <a:off x="0" y="4876920"/>
              <a:ext cx="380880" cy="1218960"/>
              <a:chOff x="0" y="4876920"/>
              <a:chExt cx="380880" cy="1218960"/>
            </a:xfrm>
          </p:grpSpPr>
          <p:sp>
            <p:nvSpPr>
              <p:cNvPr id="398" name=""/>
              <p:cNvSpPr/>
              <p:nvPr/>
            </p:nvSpPr>
            <p:spPr>
              <a:xfrm>
                <a:off x="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7632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15228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22860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30492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7632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15228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22860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30492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7632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15228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22860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30492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7632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15228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22860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30492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7632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15228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22860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30492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7632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15228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22860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30492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7632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15228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22860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30492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7632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15228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22860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30492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438" name=""/>
            <p:cNvGrpSpPr/>
            <p:nvPr/>
          </p:nvGrpSpPr>
          <p:grpSpPr>
            <a:xfrm>
              <a:off x="0" y="6095880"/>
              <a:ext cx="380880" cy="762120"/>
              <a:chOff x="0" y="6095880"/>
              <a:chExt cx="380880" cy="762120"/>
            </a:xfrm>
          </p:grpSpPr>
          <p:sp>
            <p:nvSpPr>
              <p:cNvPr id="439" name=""/>
              <p:cNvSpPr/>
              <p:nvPr/>
            </p:nvSpPr>
            <p:spPr>
              <a:xfrm>
                <a:off x="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7632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15228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22860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30492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7632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15228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22860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30492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7632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15228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22860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30492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7632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15228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22860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30492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7632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15228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22860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30492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sp>
        <p:nvSpPr>
          <p:cNvPr id="464" name=""/>
          <p:cNvSpPr/>
          <p:nvPr/>
        </p:nvSpPr>
        <p:spPr>
          <a:xfrm>
            <a:off x="914400" y="1214280"/>
            <a:ext cx="7202520" cy="0"/>
          </a:xfrm>
          <a:prstGeom prst="line">
            <a:avLst/>
          </a:prstGeom>
          <a:ln w="28440">
            <a:solidFill>
              <a:srgbClr val="8d92c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99"/>
              </a:spcBef>
              <a:buClr>
                <a:srgbClr val="a8ba74"/>
              </a:buClr>
              <a:buSzPct val="9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99"/>
              </a:spcBef>
              <a:buClr>
                <a:srgbClr val="8d92c3"/>
              </a:buClr>
              <a:buSzPct val="8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99"/>
              </a:spcBef>
              <a:buClr>
                <a:srgbClr val="a8ba74"/>
              </a:buClr>
              <a:buSzPct val="8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7BA8C-C474-4A61-8765-B7BD89CAD1E4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6" name=""/>
          <p:cNvGrpSpPr/>
          <p:nvPr/>
        </p:nvGrpSpPr>
        <p:grpSpPr>
          <a:xfrm>
            <a:off x="8763120" y="0"/>
            <a:ext cx="380880" cy="6858000"/>
            <a:chOff x="8763120" y="0"/>
            <a:chExt cx="380880" cy="6858000"/>
          </a:xfrm>
        </p:grpSpPr>
        <p:grpSp>
          <p:nvGrpSpPr>
            <p:cNvPr id="507" name=""/>
            <p:cNvGrpSpPr/>
            <p:nvPr/>
          </p:nvGrpSpPr>
          <p:grpSpPr>
            <a:xfrm>
              <a:off x="8763120" y="0"/>
              <a:ext cx="380880" cy="1219320"/>
              <a:chOff x="8763120" y="0"/>
              <a:chExt cx="380880" cy="1219320"/>
            </a:xfrm>
          </p:grpSpPr>
          <p:sp>
            <p:nvSpPr>
              <p:cNvPr id="508" name=""/>
              <p:cNvSpPr/>
              <p:nvPr/>
            </p:nvSpPr>
            <p:spPr>
              <a:xfrm>
                <a:off x="876312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883944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891540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899172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906804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876312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883944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891540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899172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906804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876312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883944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891540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899172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906804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876312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883944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891540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899172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906804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876312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883944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891540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899172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906804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876312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883944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891540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899172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906804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876312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883944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891540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899172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906804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876312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883944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891540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899172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906804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548" name=""/>
            <p:cNvGrpSpPr/>
            <p:nvPr/>
          </p:nvGrpSpPr>
          <p:grpSpPr>
            <a:xfrm>
              <a:off x="8763120" y="1219320"/>
              <a:ext cx="380880" cy="1218600"/>
              <a:chOff x="8763120" y="1219320"/>
              <a:chExt cx="380880" cy="1218600"/>
            </a:xfrm>
          </p:grpSpPr>
          <p:sp>
            <p:nvSpPr>
              <p:cNvPr id="549" name=""/>
              <p:cNvSpPr/>
              <p:nvPr/>
            </p:nvSpPr>
            <p:spPr>
              <a:xfrm>
                <a:off x="876312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883944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891540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899172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906804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876312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883944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891540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899172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906804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876312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883944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891540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899172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906804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876312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883944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891540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899172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906804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876312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883944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891540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899172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906804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876312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883944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891540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899172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906804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876312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83944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891540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899172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906804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876312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83944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891540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899172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906804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589" name=""/>
            <p:cNvGrpSpPr/>
            <p:nvPr/>
          </p:nvGrpSpPr>
          <p:grpSpPr>
            <a:xfrm>
              <a:off x="8763120" y="2438280"/>
              <a:ext cx="380880" cy="1219320"/>
              <a:chOff x="8763120" y="2438280"/>
              <a:chExt cx="380880" cy="1219320"/>
            </a:xfrm>
          </p:grpSpPr>
          <p:sp>
            <p:nvSpPr>
              <p:cNvPr id="590" name=""/>
              <p:cNvSpPr/>
              <p:nvPr/>
            </p:nvSpPr>
            <p:spPr>
              <a:xfrm>
                <a:off x="876312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883944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891540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899172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906804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876312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883944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891540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899172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906804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876312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883944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891540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899172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906804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876312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883944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891540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899172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906804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876312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883944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891540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899172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906804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876312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883944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891540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899172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906804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876312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883944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891540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899172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906804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876312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883944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891540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899172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906804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630" name=""/>
            <p:cNvGrpSpPr/>
            <p:nvPr/>
          </p:nvGrpSpPr>
          <p:grpSpPr>
            <a:xfrm>
              <a:off x="8763120" y="3657600"/>
              <a:ext cx="380880" cy="1219320"/>
              <a:chOff x="8763120" y="3657600"/>
              <a:chExt cx="380880" cy="1219320"/>
            </a:xfrm>
          </p:grpSpPr>
          <p:sp>
            <p:nvSpPr>
              <p:cNvPr id="631" name=""/>
              <p:cNvSpPr/>
              <p:nvPr/>
            </p:nvSpPr>
            <p:spPr>
              <a:xfrm>
                <a:off x="876312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883944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891540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899172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906804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876312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883944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891540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899172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906804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876312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883944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891540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899172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906804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876312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883944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891540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899172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906804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876312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883944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891540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899172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906804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876312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883944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891540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899172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906804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876312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883944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891540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899172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906804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876312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883944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891540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899172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906804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671" name=""/>
            <p:cNvGrpSpPr/>
            <p:nvPr/>
          </p:nvGrpSpPr>
          <p:grpSpPr>
            <a:xfrm>
              <a:off x="8763120" y="4876920"/>
              <a:ext cx="380880" cy="1218960"/>
              <a:chOff x="8763120" y="4876920"/>
              <a:chExt cx="380880" cy="1218960"/>
            </a:xfrm>
          </p:grpSpPr>
          <p:sp>
            <p:nvSpPr>
              <p:cNvPr id="672" name=""/>
              <p:cNvSpPr/>
              <p:nvPr/>
            </p:nvSpPr>
            <p:spPr>
              <a:xfrm>
                <a:off x="876312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883944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891540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899172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906804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876312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883944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891540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899172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906804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876312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883944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891540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899172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906804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876312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883944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891540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899172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906804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876312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883944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891540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899172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906804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876312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883944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891540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899172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906804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876312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883944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891540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899172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906804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876312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883944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891540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899172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906804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712" name=""/>
            <p:cNvGrpSpPr/>
            <p:nvPr/>
          </p:nvGrpSpPr>
          <p:grpSpPr>
            <a:xfrm>
              <a:off x="8763120" y="6095880"/>
              <a:ext cx="380880" cy="762120"/>
              <a:chOff x="8763120" y="6095880"/>
              <a:chExt cx="380880" cy="762120"/>
            </a:xfrm>
          </p:grpSpPr>
          <p:sp>
            <p:nvSpPr>
              <p:cNvPr id="713" name=""/>
              <p:cNvSpPr/>
              <p:nvPr/>
            </p:nvSpPr>
            <p:spPr>
              <a:xfrm>
                <a:off x="876312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883944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891540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899172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906804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876312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883944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891540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899172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906804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876312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883944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891540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899172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906804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876312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883944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891540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899172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906804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876312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883944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891540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899172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906804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738" name=""/>
          <p:cNvGrpSpPr/>
          <p:nvPr/>
        </p:nvGrpSpPr>
        <p:grpSpPr>
          <a:xfrm>
            <a:off x="0" y="0"/>
            <a:ext cx="380880" cy="6858000"/>
            <a:chOff x="0" y="0"/>
            <a:chExt cx="380880" cy="6858000"/>
          </a:xfrm>
        </p:grpSpPr>
        <p:grpSp>
          <p:nvGrpSpPr>
            <p:cNvPr id="739" name=""/>
            <p:cNvGrpSpPr/>
            <p:nvPr/>
          </p:nvGrpSpPr>
          <p:grpSpPr>
            <a:xfrm>
              <a:off x="0" y="0"/>
              <a:ext cx="380880" cy="1219320"/>
              <a:chOff x="0" y="0"/>
              <a:chExt cx="380880" cy="1219320"/>
            </a:xfrm>
          </p:grpSpPr>
          <p:sp>
            <p:nvSpPr>
              <p:cNvPr id="740" name=""/>
              <p:cNvSpPr/>
              <p:nvPr/>
            </p:nvSpPr>
            <p:spPr>
              <a:xfrm>
                <a:off x="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7632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15228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22860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30492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7632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15228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22860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30492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7632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15228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22860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30492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7632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15228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22860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30492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7632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15228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22860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30492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7632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15228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22860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0492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32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15228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22860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0492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7632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15228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22860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30492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0" y="1219320"/>
              <a:ext cx="380880" cy="1218600"/>
              <a:chOff x="0" y="1219320"/>
              <a:chExt cx="380880" cy="1218600"/>
            </a:xfrm>
          </p:grpSpPr>
          <p:sp>
            <p:nvSpPr>
              <p:cNvPr id="781" name=""/>
              <p:cNvSpPr/>
              <p:nvPr/>
            </p:nvSpPr>
            <p:spPr>
              <a:xfrm>
                <a:off x="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7632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15228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22860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30492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7632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15228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22860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30492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7632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15228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22860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30492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7632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15228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22860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30492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7632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15228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22860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30492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7632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15228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22860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30492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7632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15228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22860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30492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7632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15228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22860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30492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21" name=""/>
            <p:cNvGrpSpPr/>
            <p:nvPr/>
          </p:nvGrpSpPr>
          <p:grpSpPr>
            <a:xfrm>
              <a:off x="0" y="2438280"/>
              <a:ext cx="380880" cy="1219320"/>
              <a:chOff x="0" y="2438280"/>
              <a:chExt cx="380880" cy="1219320"/>
            </a:xfrm>
          </p:grpSpPr>
          <p:sp>
            <p:nvSpPr>
              <p:cNvPr id="822" name=""/>
              <p:cNvSpPr/>
              <p:nvPr/>
            </p:nvSpPr>
            <p:spPr>
              <a:xfrm>
                <a:off x="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7632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15228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22860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30492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7632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15228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22860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30492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7632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15228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22860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30492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632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15228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22860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30492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7632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15228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22860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30492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7632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15228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22860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30492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7632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15228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22860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30492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7632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15228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22860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30492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62" name=""/>
            <p:cNvGrpSpPr/>
            <p:nvPr/>
          </p:nvGrpSpPr>
          <p:grpSpPr>
            <a:xfrm>
              <a:off x="0" y="3657600"/>
              <a:ext cx="380880" cy="1219320"/>
              <a:chOff x="0" y="3657600"/>
              <a:chExt cx="380880" cy="1219320"/>
            </a:xfrm>
          </p:grpSpPr>
          <p:sp>
            <p:nvSpPr>
              <p:cNvPr id="863" name=""/>
              <p:cNvSpPr/>
              <p:nvPr/>
            </p:nvSpPr>
            <p:spPr>
              <a:xfrm>
                <a:off x="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7632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15228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22860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30492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7632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15228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22860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30492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7632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15228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22860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30492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7632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15228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22860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30492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7632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15228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22860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30492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7632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15228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22860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30492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7632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15228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22860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30492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7632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15228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22860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492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903" name=""/>
            <p:cNvGrpSpPr/>
            <p:nvPr/>
          </p:nvGrpSpPr>
          <p:grpSpPr>
            <a:xfrm>
              <a:off x="0" y="4876920"/>
              <a:ext cx="380880" cy="1218960"/>
              <a:chOff x="0" y="4876920"/>
              <a:chExt cx="380880" cy="1218960"/>
            </a:xfrm>
          </p:grpSpPr>
          <p:sp>
            <p:nvSpPr>
              <p:cNvPr id="904" name=""/>
              <p:cNvSpPr/>
              <p:nvPr/>
            </p:nvSpPr>
            <p:spPr>
              <a:xfrm>
                <a:off x="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7632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5228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22860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30492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7632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15228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860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30492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7632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15228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22860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30492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7632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15228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22860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30492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7632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15228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22860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30492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7632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15228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22860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30492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7632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15228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22860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30492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7632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15228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22860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30492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944" name=""/>
            <p:cNvGrpSpPr/>
            <p:nvPr/>
          </p:nvGrpSpPr>
          <p:grpSpPr>
            <a:xfrm>
              <a:off x="0" y="6095880"/>
              <a:ext cx="380880" cy="762120"/>
              <a:chOff x="0" y="6095880"/>
              <a:chExt cx="380880" cy="762120"/>
            </a:xfrm>
          </p:grpSpPr>
          <p:sp>
            <p:nvSpPr>
              <p:cNvPr id="945" name=""/>
              <p:cNvSpPr/>
              <p:nvPr/>
            </p:nvSpPr>
            <p:spPr>
              <a:xfrm>
                <a:off x="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7632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15228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22860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30492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7632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15228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22860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30492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7632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15228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22860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30492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7632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15228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22860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30492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7632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15228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22860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30492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970" name=""/>
          <p:cNvGrpSpPr/>
          <p:nvPr/>
        </p:nvGrpSpPr>
        <p:grpSpPr>
          <a:xfrm>
            <a:off x="533520" y="1903680"/>
            <a:ext cx="8218440" cy="2060280"/>
            <a:chOff x="533520" y="1903680"/>
            <a:chExt cx="8218440" cy="2060280"/>
          </a:xfrm>
        </p:grpSpPr>
        <p:sp>
          <p:nvSpPr>
            <p:cNvPr id="971" name=""/>
            <p:cNvSpPr/>
            <p:nvPr/>
          </p:nvSpPr>
          <p:spPr>
            <a:xfrm>
              <a:off x="533520" y="2819520"/>
              <a:ext cx="4103640" cy="1144440"/>
            </a:xfrm>
            <a:custGeom>
              <a:avLst/>
              <a:gdLst/>
              <a:ahLst/>
              <a:rect l="l" t="t" r="r" b="b"/>
              <a:pathLst>
                <a:path w="2585" h="721">
                  <a:moveTo>
                    <a:pt x="48" y="0"/>
                  </a:moveTo>
                  <a:lnTo>
                    <a:pt x="0" y="192"/>
                  </a:lnTo>
                  <a:cubicBezTo>
                    <a:pt x="79" y="270"/>
                    <a:pt x="337" y="391"/>
                    <a:pt x="524" y="468"/>
                  </a:cubicBezTo>
                  <a:cubicBezTo>
                    <a:pt x="711" y="545"/>
                    <a:pt x="891" y="611"/>
                    <a:pt x="1124" y="652"/>
                  </a:cubicBezTo>
                  <a:cubicBezTo>
                    <a:pt x="1357" y="693"/>
                    <a:pt x="1702" y="721"/>
                    <a:pt x="1920" y="712"/>
                  </a:cubicBezTo>
                  <a:cubicBezTo>
                    <a:pt x="2138" y="703"/>
                    <a:pt x="2323" y="653"/>
                    <a:pt x="2432" y="600"/>
                  </a:cubicBezTo>
                  <a:cubicBezTo>
                    <a:pt x="2541" y="547"/>
                    <a:pt x="2585" y="410"/>
                    <a:pt x="2576" y="396"/>
                  </a:cubicBezTo>
                  <a:cubicBezTo>
                    <a:pt x="2567" y="382"/>
                    <a:pt x="2504" y="486"/>
                    <a:pt x="2376" y="516"/>
                  </a:cubicBezTo>
                  <a:cubicBezTo>
                    <a:pt x="2248" y="546"/>
                    <a:pt x="2005" y="578"/>
                    <a:pt x="1808" y="576"/>
                  </a:cubicBezTo>
                  <a:cubicBezTo>
                    <a:pt x="1611" y="574"/>
                    <a:pt x="1368" y="538"/>
                    <a:pt x="1196" y="504"/>
                  </a:cubicBezTo>
                  <a:cubicBezTo>
                    <a:pt x="1024" y="470"/>
                    <a:pt x="910" y="425"/>
                    <a:pt x="776" y="372"/>
                  </a:cubicBezTo>
                  <a:cubicBezTo>
                    <a:pt x="642" y="319"/>
                    <a:pt x="513" y="250"/>
                    <a:pt x="392" y="188"/>
                  </a:cubicBezTo>
                  <a:cubicBezTo>
                    <a:pt x="271" y="126"/>
                    <a:pt x="120" y="39"/>
                    <a:pt x="4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eeddee"/>
                </a:gs>
                <a:gs pos="100000">
                  <a:srgbClr val="d7add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sp>
          <p:nvSpPr>
            <p:cNvPr id="972" name=""/>
            <p:cNvSpPr/>
            <p:nvPr/>
          </p:nvSpPr>
          <p:spPr>
            <a:xfrm flipH="1" flipV="1" rot="21597600">
              <a:off x="4571280" y="1904760"/>
              <a:ext cx="4179960" cy="1224000"/>
            </a:xfrm>
            <a:custGeom>
              <a:avLst/>
              <a:gdLst/>
              <a:ahLst/>
              <a:rect l="l" t="t" r="r" b="b"/>
              <a:pathLst>
                <a:path w="2585" h="721">
                  <a:moveTo>
                    <a:pt x="48" y="0"/>
                  </a:moveTo>
                  <a:lnTo>
                    <a:pt x="0" y="192"/>
                  </a:lnTo>
                  <a:cubicBezTo>
                    <a:pt x="79" y="270"/>
                    <a:pt x="337" y="391"/>
                    <a:pt x="524" y="468"/>
                  </a:cubicBezTo>
                  <a:cubicBezTo>
                    <a:pt x="711" y="545"/>
                    <a:pt x="891" y="611"/>
                    <a:pt x="1124" y="652"/>
                  </a:cubicBezTo>
                  <a:cubicBezTo>
                    <a:pt x="1357" y="693"/>
                    <a:pt x="1702" y="721"/>
                    <a:pt x="1920" y="712"/>
                  </a:cubicBezTo>
                  <a:cubicBezTo>
                    <a:pt x="2138" y="703"/>
                    <a:pt x="2323" y="653"/>
                    <a:pt x="2432" y="600"/>
                  </a:cubicBezTo>
                  <a:cubicBezTo>
                    <a:pt x="2541" y="547"/>
                    <a:pt x="2585" y="410"/>
                    <a:pt x="2576" y="396"/>
                  </a:cubicBezTo>
                  <a:cubicBezTo>
                    <a:pt x="2567" y="382"/>
                    <a:pt x="2504" y="486"/>
                    <a:pt x="2376" y="516"/>
                  </a:cubicBezTo>
                  <a:cubicBezTo>
                    <a:pt x="2248" y="546"/>
                    <a:pt x="2005" y="578"/>
                    <a:pt x="1808" y="576"/>
                  </a:cubicBezTo>
                  <a:cubicBezTo>
                    <a:pt x="1611" y="574"/>
                    <a:pt x="1368" y="538"/>
                    <a:pt x="1196" y="504"/>
                  </a:cubicBezTo>
                  <a:cubicBezTo>
                    <a:pt x="1024" y="470"/>
                    <a:pt x="910" y="425"/>
                    <a:pt x="776" y="372"/>
                  </a:cubicBezTo>
                  <a:cubicBezTo>
                    <a:pt x="642" y="319"/>
                    <a:pt x="513" y="250"/>
                    <a:pt x="392" y="188"/>
                  </a:cubicBezTo>
                  <a:cubicBezTo>
                    <a:pt x="271" y="126"/>
                    <a:pt x="120" y="39"/>
                    <a:pt x="4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d92c3"/>
                </a:gs>
                <a:gs pos="100000">
                  <a:srgbClr val="d0d2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E9410-BF73-4C6D-9E88-F4900CF161A8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601"/>
              </a:spcBef>
              <a:buClr>
                <a:srgbClr val="8d92c3"/>
              </a:buClr>
              <a:buSzPct val="80000"/>
              <a:buFont typeface="Wingdings 2" charset="2"/>
              <a:buChar char="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a8ba74"/>
              </a:buClr>
              <a:buSzPct val="80000"/>
              <a:buFont typeface="Wingdings 2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99"/>
              </a:spcBef>
              <a:buClr>
                <a:srgbClr val="8d92c3"/>
              </a:buClr>
              <a:buSzPct val="70000"/>
              <a:buFont typeface="Wingdings 2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치료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p243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2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효과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력 및 근피로 지수 증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호기성 대사의 증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젖산생성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맥순환의 증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펌프 작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림프순환 촉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인접조직의 유착방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경직 방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흥분성 유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3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종류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24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기자극의 종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속 직류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IDC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느린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low sinusoidal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능적 전기자극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FE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간섭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IC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전기자극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EM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기자극 치료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(EST)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는 신경재생에 아무런 효과가 없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마비된 근육의 수축 감각을 잊어버리지 않도록 하는 효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4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탈신경근의 자극조건 </a:t>
            </a:r>
            <a:br>
              <a:rPr sz="3600"/>
            </a:b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파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차단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0m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한축삭절단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삼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등사변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0-6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축삭절단 및 신경절단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삼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톱니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0-2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재생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1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분 탈신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1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빈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10pp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-25pps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일반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통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00-2,000ms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로 긴 통전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간 간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기간보다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-3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배 이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 용량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0-2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강한 수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을 신장시킨 자세에서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 예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20-3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수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로 변성근을 자극할 수 없는 이유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손상 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까지는 가능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후에는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m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0-2000m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필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단속직류전류나  정현파 전류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-25pp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빈도로 자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5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탈신경 전기자극의 위험 및 문제점</a:t>
            </a: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와 근육통이 문제점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위 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화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기화상과 화학적 화상 발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쇼크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피부와의 접촉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6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 전기자극의 금기증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8229600" cy="51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부종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 손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각마비 부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화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동성 결핵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성종양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전증 및 혈전성 정맥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금속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화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확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어린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노인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사전달문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원인불명통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zh-CN" sz="4000" spc="-1" strike="noStrike">
                <a:solidFill>
                  <a:srgbClr val="7882aa"/>
                </a:solidFill>
                <a:latin typeface="굴림"/>
              </a:rPr>
              <a:t>임상적용 및 치료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적용방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 탈의 지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 청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름기 제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창상 및 박리된 부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바셀린으로 절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신장은 금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를 따뜻하게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  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극 연결 및 접촉이 견고한지 확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패드를 따뜻한 물에 담근 후 짜내고 충분히 가습함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zh-CN" sz="4000" spc="-1" strike="noStrike">
                <a:solidFill>
                  <a:srgbClr val="7882aa"/>
                </a:solidFill>
                <a:latin typeface="굴림"/>
              </a:rPr>
              <a:t>임상적용 및 치료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8229600" cy="55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극부착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극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점에 배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비활성전극면적이 넓은 전극부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부의 근 수축에 방해가 되지 않는 무위에 배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양극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면적 같은 두 전극 사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기시점과 정지점에 적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군 자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같은 크기의 큰 패드 이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 재교육식 사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특징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3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전기자극의 목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위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muscle atrophy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발생의 예방이나 진행 지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과 이완에 의한 혈액순환의 증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재생이 지연된 환자의 정신적인 안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내 구성 단백질성분의 감소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장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extensibility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의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섬유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osis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 같은 조직변화의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마비환자의 근수축 감각 유지 </a:t>
            </a:r>
            <a:br>
              <a:rPr sz="2800"/>
            </a:b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험되는 감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수축이완을 수반하는 경도의 따끔따끔 쑤시는 감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priking sensation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이 유발되도록 전류강도를 서서히 올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한 근육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3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근수축 유발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도하게 자극하지 않도록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⑾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 종료 시 전류강도를 서서히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으로 내린 후 주 전원 스위치를 끈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⑿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의 피부 점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기자극치료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기자극 특성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적응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추신경계 손상환자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하위신경원 질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장기간 고정 환자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말초신경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관절가동범위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련성 완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길항근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동근 자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각훈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주파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강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력 강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MCV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0-60%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50-90pps,  0.05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～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.5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재교육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pps, 0.05-0.3m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등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추 측만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만곡 안에 전극 부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25pps, 220μ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8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혈류량 증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4-32pps, 0.1-0.3m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등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-30%, MCV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배뇨장애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보장구 대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능적 전기자극 치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극성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활성전극 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CCC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순응이 일어나지 않도록 자극해야 한다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류 밀도가 중요하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류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강도의 제곱에 비례하고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극의 단면적에 반비례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의 선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선택의 범위가 다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파형도 다양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화속도가 너무 느리거나 빠르면 부적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50-200Hz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 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환자의 느낌에 따라 조절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급속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apid sinusoidal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빠른 변화속도의 직각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ectangular wave form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지배근의 전기자극 효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근섬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백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 더 민감하게 변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로 최소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 이상 장기간 자극해야 변화된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축단백질 마이오신과 트로포마이오신의 변화에 의한 것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미토콘드리아의 산화효소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NADH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활성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a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섬유의 글리코겐을 고갈시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장시간 자극시 호기성 대사를 증가시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호기성대사가 우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축 지구력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에 대한 저항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리보오솜에서 단백질 함성능력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아세틸콜린 감수성의 저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 속도가 느려진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모세혈관 분포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의 온도 상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7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의 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력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자극이 기능적 부하가 되어 근력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자극이 Ⅱ형인 큰 운동신경원들이 먼저 흥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수의적 수축 시와 반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되고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발사빈도가 높고 지속적이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에 의한 근력 증가와는 다른 기전이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9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 둘레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3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지배신경근의 전기자극 목적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생리적 활동의 회복 촉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혈액과 임파액의 순환증진 및 유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유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adhesion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성의 예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정상적인 근경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pasm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재교육 혹은 마사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의 원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말초신경 손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병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HNP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근종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염성 신경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독성 신경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포착성 신경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근관증후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골관증후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토요일밤의 마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골간신경 압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중압좌증후군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각세포 병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소아마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진행성 근위축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수공동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위축성 측색경화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다발성근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증 근무력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4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신경지배근의 전기자극 종류의 자극조건</a:t>
            </a: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의 선택이 매우 제한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완속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느린 변화속도의 직각파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성근의 강축 유발은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-10Hz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적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)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전기자극기의 종류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faradic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msec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로 고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진단 및 치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최근에는 파를 변형시켜 사용하기도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inusoidal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최근에는 많이 사용하지 않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조시켜 근경련 감소나 통증완화 목적으로 사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각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ectangular wave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장 많이 이용되는 저주파 치료기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간의 변화속도를 조절 가능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-100Hz, 0.1-1,000msec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범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혼합형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mixed type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 등을 치료목적에 따라 혼합 또는 단독으로 선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과 근육을 자극하기 위한 조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by Dubois-Reymond &amp; Nernst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강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시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강도의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**Dubois-Reymond' Law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 자극시 전류의 변화 속도에 대한 법칙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변화속도가 빠를수록 낮은 강도의 전류반응을 일으킬 수 있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변화 속도가 느리면 → 신경순응 → 역치상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조건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파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시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전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전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②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상 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으로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온의 화학자극으로 피부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시간적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③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대칭이상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으로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피부자극은 작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화학적 효과가 거의 없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큰 군 자극에 해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④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교대 대칭성 이상파 – 두 전극에서 흥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축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20-35pp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을 약간 신장시킨 상태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 기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200-500μ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효율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강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증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가동범위 증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수축 근 재교육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련성 치료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중등도의 강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사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ramp or surge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강도로 도달하는 시간 짧게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응하기 때문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보행 훈련시 빠르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련성이나 구축 치료 시 느리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속 시간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on-off ratio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1 - 1: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피로 줄이려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3-1:5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-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5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극부착 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극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작은 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운동점에 배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활성 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큰 전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양극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활성전극의 크기가 동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origin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insertion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위에 부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군자극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군의 재교육식 사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양극식의 일종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6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치료시 문제점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주파수가 피로를 덜 일으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조건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이상 자극을 해야 감소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속 시간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:5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장 효과적인 조절 방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 전기치료의 금기증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넓은 개방성 상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습진이나 건선 등의 피부질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infection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나 염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inflammation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심부 정맥 혈전증이나 동맥경화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감각의 저해나 상실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동성 결핵이나 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심장박동조절기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cardic pacemaker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착용 중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전성 정맥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thrombophlebitis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너무 고령이거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소아에게는 주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 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표면 가까이 금속이 있는 경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의 특성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denervated atrophy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 무게 감소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무게 감소는 신경손상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달 안에 현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지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결합조직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섬유직경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 횡단면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은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b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의 위축이 현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고정으로 인한 불용성 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1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의 위축이 현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변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degeneration):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손상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7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 후부터 시작되어 수개월간 진행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펌프작용 불량 → 장기간 근육내 혈관정체 → 혈액공급 장애 → 근 퇴행성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에 대한 감수성 높아서 쉽게 손상됨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조직화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ATP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상인 경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type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에서 높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SDH(succinate dehydrogenase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NADH-TR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Alkaline phosphat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hosphoryl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화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reatine, ATP, K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ollagen, chloride, sodium, calcium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단백변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후기 근육 단백 농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결합조직의 총 단백량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태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위축된 근섬유가 각을 형성하여 집단으로 출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간질조직의 증식과 근형질의 위축으로 핵 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초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형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원섬유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접합부의 통합 파괴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의 수 체적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절수 및 길이의 변화는 없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세동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illation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발적 비협응적 수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세틸콜린 과민반응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과민반응 법칙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기간이 짧은 감응전류에는 반응하지 않고 맥동기간이 긴 단속직류전류에 느린 수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치 상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상근 시치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m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긴 통전시간으로 자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0-1ms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극성곡식의 반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평류강축비 변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흥분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 연축장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 강축장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 근피로 지수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절반이완시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시간  길어짐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⑾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손상부위 아래 운동 및 감각마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영양성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⑿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섬유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osis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형질세망에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a2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결합 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포막에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K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안정막전위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막통과 저항 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⒁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피질의 탈칼슘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decalcification)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다공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⒂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건 인대의 불용성 섬유증과 유착 → 운동장애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2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효과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효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위축의 지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형의 변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높은 주파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Ⅰ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 →Ⅱ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낮은 주파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 →Ⅰ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효소활성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ATPase, NADH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Phosphoryl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백질합성능력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류량 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모세혈관화 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2T03:59:14Z</dcterms:created>
  <dc:creator>win xp</dc:creator>
  <dc:description/>
  <dc:language>en-US</dc:language>
  <cp:lastModifiedBy>win xp</cp:lastModifiedBy>
  <dcterms:modified xsi:type="dcterms:W3CDTF">2005-03-21T16:20:09Z</dcterms:modified>
  <cp:revision>5</cp:revision>
  <dc:subject/>
  <dc:title>탈신경근의 전기자극치료 p243 </dc:title>
</cp:coreProperties>
</file>